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33C1-DFFA-4AA6-973B-A6C905469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and perfection of Raphael’s fig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eth - </a:t>
            </a:r>
            <a:r>
              <a:rPr b="0" i="1" lang="en-US" sz="1200" spc="-1" strike="noStrike">
                <a:solidFill>
                  <a:srgbClr val="000033"/>
                </a:solidFill>
                <a:latin typeface="Arial"/>
                <a:ea typeface="Arial"/>
              </a:rPr>
              <a:t>Winter 1946</a:t>
            </a:r>
            <a:r>
              <a:rPr b="0" lang="en-US" sz="1200" spc="-1" strike="noStrike">
                <a:solidFill>
                  <a:srgbClr val="000033"/>
                </a:solidFill>
                <a:latin typeface="Arial"/>
                <a:ea typeface="Arial"/>
              </a:rPr>
              <a:t>, 19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Arial"/>
                <a:ea typeface="Arial"/>
              </a:rPr>
              <a:t>Van Eyck – </a:t>
            </a:r>
            <a:r>
              <a:rPr b="0" i="1" lang="en-US" sz="1200" spc="-1" strike="noStrike">
                <a:solidFill>
                  <a:srgbClr val="000033"/>
                </a:solidFill>
                <a:latin typeface="Arial"/>
                <a:ea typeface="Arial"/>
              </a:rPr>
              <a:t>Man with a Turban</a:t>
            </a:r>
            <a:r>
              <a:rPr b="0" lang="en-US" sz="1200" spc="-1" strike="noStrike">
                <a:solidFill>
                  <a:srgbClr val="000033"/>
                </a:solidFill>
                <a:latin typeface="Arial"/>
                <a:ea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enthaller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ulls Ey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6D1-FD11-43A4-B279-361E8A1A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4E1-8F78-466F-A1EE-05DAA9AB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C26-8A7B-438D-91C2-A94D926B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20C-848D-4D09-844C-C609294C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4AE-310F-41D4-AA15-BDA1F54D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1B9-A53E-49F5-BCA5-C29EEFDF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9E2-4FEE-4FF6-8275-27CA1AE8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4AE-899B-40FE-85CE-BB526C92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D04-1B94-491F-89D7-5F71425C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FCB-7B08-44D6-9638-B4DA9F25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1A4-2035-4619-B75F-470595D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616-6DEB-46B2-8EA6-7CF973B6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B1F7-6115-4B27-8F49-D86044130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fornian FB"/>
              </a:rPr>
              <a:t>Paint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Temp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90880" cy="2851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2301840"/>
            <a:ext cx="360684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Grisa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Art 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Raphael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School of Athens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Renaissance, 1510-1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0799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81240" y="1677960"/>
            <a:ext cx="47815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Tomaselli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Head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Conceptual Art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7958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Hockney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Mount Fuji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Post-Modernist, 19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7291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ncaustic &amp; Fres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502000" cy="1904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0844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Tempera &amp;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174840" cy="2082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410080" y="2057400"/>
            <a:ext cx="2540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Watercolor &amp; Gou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2900520"/>
            <a:ext cx="3809880" cy="2276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91280" y="2276640"/>
            <a:ext cx="25239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Materials 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14880" y="1841400"/>
            <a:ext cx="25146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Acry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314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Collage &amp; Mosa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29732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33800" y="2867040"/>
            <a:ext cx="3238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You will create 2 pieces of art, using the same subject matter, but using 2 different media (oil, watercolor, acrylic, gouache, pastels, etc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You need to reproduce the exact same image on each canvas (or ½ canvas or pap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4120" y="26668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Carto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8828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Impas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801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Col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42670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Mosa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70240" y="1892160"/>
            <a:ext cx="26035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ncau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479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Fres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2338560"/>
            <a:ext cx="304812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2:19:10Z</dcterms:created>
  <dc:creator>Sheila Levi</dc:creator>
  <dc:description/>
  <dc:language>en-US</dc:language>
  <cp:lastModifiedBy>Sheila</cp:lastModifiedBy>
  <dcterms:modified xsi:type="dcterms:W3CDTF">2005-05-20T15:34:09Z</dcterms:modified>
  <cp:revision>10</cp:revision>
  <dc:subject/>
  <dc:title>PowerPoint Presentation</dc:title>
</cp:coreProperties>
</file>